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18F-085F-4E47-A8E0-65761C53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530-3308-4D2B-AA31-2359C9C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F2C15-264C-463C-B356-872A069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72DF9-DE88-47B5-8C3A-D5C2B99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CC964-7F2E-406B-8985-D46941A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05BD-37E2-4271-9CAE-4DBC499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C212-6C0B-4FEB-80D1-EB5F6B8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6F553-5B3A-4785-B998-75F17C19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7F20F-940F-4E66-8251-4D4ADB2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07480-0D08-4631-A4E5-F0B6E0B0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F22A1-67DC-4246-8562-25055A04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38902-7782-45C8-8652-15D5E4AF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FAC-B6A4-4CE5-AD0B-84524C9B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29F0C-9D75-4B4B-9193-EDB1625D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1A8F-D4C0-414C-841E-FD32C60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73390-78CE-41E1-A44A-DDC5A99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88A37-4FCC-4B9B-B2A7-629EDC1D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FFCB7-10FE-4117-B406-6440052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7EC12-6984-4FBF-ADEE-62DEEA1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B4AAC-6E43-423C-B215-FACA956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FA001-8AF4-4CE9-8D31-96C0129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42139-C8E1-4748-AFE1-4D747E40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2A824-F7D0-4DC3-A39F-910CD99B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3BF-5EEB-46B4-91FE-2ED95703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BADC9-D994-4CA2-8BB9-75D06FD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B638-623E-46AC-8804-330B1627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FD874-9DF7-458F-8151-E9034027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ABA24-7656-4888-9C0E-0CD6342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1D25-9E78-4D01-BBA3-AD2587F5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A71E-6593-4236-AB5A-01CA911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808CC-28CC-4996-B01F-839E9587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9C115-5BE9-4A34-9C96-472625D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682A1-5BC8-4B46-8DF7-875F28D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4EBF7-A6F7-46B7-A3ED-27F85FD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CA6-D30B-46E1-B9BD-2353BEC0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063B7-97C4-48B7-B059-121A7664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91B8-5ADC-4AE9-975E-470F0D4F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A4E67-1AB7-4609-BBB1-4D63E957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F8E32-07A0-4BA5-8727-5CCEBE88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3DC3E-C852-4F44-ADA6-72A09134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DBA77-5334-4AD1-A592-AF6C74A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DBAE8-8164-46E6-8887-A677E46E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9B7CC-FC56-4213-B6A6-8F8B35EA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CE33E-727F-4BB8-AD1E-C071DB0E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48AE3-C5A7-451F-A820-0C86EF2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BFCA-67A5-4986-93F3-2809AA9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E80A1-2B79-49BB-901C-AF5B19B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F662C-4C34-49E8-AF8C-693304C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85142-675C-41C1-8C34-10C99832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14C79-6BC2-48EE-A3D2-6822B95F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0F1C3-C12A-4A53-A153-FE03F010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B9B2B-0750-46D6-A69A-7BEA159A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CDBA2-2925-4B63-BDFA-F0BFA13C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13696-B1BD-4779-BD1A-346E0F9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E5DC6-340C-48B1-AAA1-44AAF3AC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82FEA-55DE-4374-8DB5-E7E87CB3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396-F758-4BD0-AA34-E1015DC0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44EC6-1896-4FF0-B4E6-68E5AFC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454A1-181D-4A46-AF3C-E540CE1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A35D7-65CA-4F21-95A0-6CE9BF8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7C0A6-0E8D-4635-8A6D-AED4914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CD9F6-69B1-4397-AC4E-ACD3CB8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63C30-0B45-4A20-9077-D8E4DA38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62467-0519-4617-BD57-A140C635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45562-58F4-4C3C-A2A8-64EDF06A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7BFD7-59C8-4BFF-8C57-CA6991C4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152CC-AC47-4256-B57B-D47852DA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2485-9F69-4799-82DA-D35C433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EE3A2-27BB-45DC-A0F5-91E8AA3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E1F67-F951-4EA8-ADC6-37A8A9D5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FA689-6310-4A02-8A0E-FE43A78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065FA-AF84-4801-B8F7-4C62BCB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F6038-24A0-4194-94AE-74A0258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5A868-AD02-4A2C-B517-47D2D28E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8CEDD-A19C-4BCB-9139-F0C543B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61D93-8FBF-4666-8910-BFEBA204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E0BC3-A0BF-408B-A970-99730141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127AE-9B08-4DA8-93FD-09E18F0C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0365-78B2-4814-946E-3BAA65D6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EBEF0-6153-486D-9502-8EE10B5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DB243-4DC4-4432-BFC1-3D7F8BD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59A9A-5BDF-4594-919F-303D95CF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490B9-D1B9-47F5-B415-7E8B99A4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2FBC5-B54D-45DD-B908-6EE1D110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BFB64-5EFD-41A9-8DCA-350D634D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16191-E702-400E-8C93-B387F49C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998E7-8189-41CE-A869-16888D7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9A4C6-27DD-456C-93F1-825CD2D6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63B76-3682-43E4-8AF0-7E3AA2A7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7C41-1CB0-4825-9B19-9690F0F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7BA42-027A-44AB-A920-C1D95049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4054B-A732-411A-B768-88504C22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952AB-4826-46D8-83F5-1A90CC07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569DF-F90D-496A-B830-F535E2D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42AB0-641C-462C-A27A-2AE0FFBD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D57DD-9DF7-4B38-9E6B-46EF5D99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EC3FB-7563-4687-9B18-152C42FC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4C96D-6229-458F-A13F-77334FA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ADBA4-AD85-4CED-B58E-2DB6341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5101C-9775-41CD-AC12-25CD2D6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5B4-A470-4295-A77B-404D6949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E441F-0679-4D39-A883-E793BA62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05B7B-8222-4162-9EA5-20B999E1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9B4AB-4C32-4CC8-AA6F-A9502372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8A538-75A0-45F6-87F4-0FF6E57F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93711-8F55-4A7A-AE8D-C49E2D0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D387F-3B9D-4F67-980C-05E3FFD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0299E-14DF-49AB-AB73-E5EBE28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F9119-1EBC-4251-B452-E319055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BF1CC-05B3-470E-90A3-303027A0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0A406-D276-4742-8C26-45ACDF4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CD5-3BA5-4F38-B64B-A7E97F62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6C7B-8C99-447A-8135-E849D04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25DB7-B064-44B7-A68C-39F8EDC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BF55D-EC7B-4A99-9D64-5C7A868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78DF2-8291-4C2B-84E7-BF82E65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599D3-1760-444C-AE7B-27AE943A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DB7F3-B872-4357-B353-947EF5FE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3370A-698D-41AF-9515-879BBBB6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EC50D-D332-4909-8F31-9F77CE2E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629DE-D29B-44F2-9191-1E64272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B39A1-9942-4564-9226-10135FC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8366A-427B-4C5C-B3B8-17BB2E4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8EC7-36E8-46D3-AC5D-A68D627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775AB-F45F-41EA-A61B-613E865D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DABB0-ED20-4C37-A42E-CB6C7C8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9200B-1D92-44D0-9CDE-2B60CC5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1A1DE-C2C1-4D6C-BBE4-FCC56E2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DFD08-E882-4028-839C-7F56F3B0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52310-5F32-4C61-9EEB-7AB41A4A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801AD-6F72-41AB-BC7C-407A5143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30C76-E815-402B-B8E5-7B9ECA0A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FDC84-3B39-4C70-8EFA-5822789E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E3B26-A548-4343-A814-BEBF98E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FBD5-9BCA-4DBC-A6EC-F2A79D30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1893C-63A2-4D23-A19D-53E04AAB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C848A1-279D-4A02-8870-EA7C431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2B3BDE-E00D-4072-9F7A-5B21535D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AAA83-2679-4C74-A6B6-5A8E0E3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F1DC3-966D-4EEC-9A8C-7A93C6D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B7B78-A70C-48EE-9B83-6BD8833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47D77-AFA9-492F-A18D-B674F91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7DB9B-011F-4FB7-9802-89C389BD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52DD5-5A03-4E5B-BA2C-9AFE3CFF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B2DA8-452D-40B0-BDFC-F4EC16D6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C17-A3E3-48B0-810D-592DA688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5A819F-24F9-462B-A5FD-DB3EC1F3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883D2-E554-4435-A147-02C2AA83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D2A52-58E2-4A27-B745-57130BC2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92D64-D216-437E-A86E-90B2F949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171B1-0473-481B-8C79-4E725B2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675D0-1583-44F3-9BFB-CDC38D5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8A1BF-C8F6-4658-8E2A-44CC319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3F52C-23D9-499E-B486-CFC6BD1B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6F4EF-CF3B-462D-8DD1-2A684BE6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60090-EE99-44F8-BF09-6EB9E9CE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2CDE-71C5-47C9-A8DA-B81C660B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23E02-1600-4EFA-9955-00B680BF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5407D-9846-4D53-A8A6-4D8E0828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F42F2-CE93-40C9-819C-237C072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048F8-9FD4-4B04-AAF4-18E7D7A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A1912C-3BC6-46D4-A580-209CCD6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9E951-7423-453C-A4C5-5BF33C1D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3636C-6780-4489-8657-A3415B3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A55DA-27C6-40B9-BC32-60F2A3FD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C4FB8-6B43-431F-80AD-4CF9F8A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8D99B-2675-4115-820C-1F08513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1890-A878-48EB-9E84-DC79B78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80784-99B8-49D2-BEA3-6CBCE962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61D2B-FAE6-4E7E-8FBC-C5BCEE11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73AD9-2BC8-4F72-9F88-E624E5ED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77F8-2010-4E3E-97B9-807B580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FA53-0C3D-4B7F-94AC-24E9DC5E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09AF-4CB1-4F5D-BF04-81BC83D7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37ED-BF4B-4FA3-BA00-3180F2F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4DF-1261-4A5E-B7E9-730008D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8193-5EA0-4ECC-9C3D-152AAFC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B286-534C-4B39-AFEE-A1BDA1A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6BBE-2BBB-4F1F-8334-1017BB2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3458-E004-45B0-8AE1-F1E2D4E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C595-ADAD-49BC-9AF3-E4C7339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D272-29B1-4AE9-938C-D44F69A2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F52F-1CCC-4717-84C4-29439EF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5812-A14E-4E03-86EF-99250593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776B-D2A3-404B-9CA2-33AB54FA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9C5F-32C1-45F2-9FEF-E56A1112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315-DD97-42AC-A233-6BEDF4D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B988-51B2-4C1E-8E42-9575591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AA94-0CB9-422A-B264-EF2B69E7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BF9E-6E54-4D0B-A02E-13195E9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7CBF-45FA-40ED-A0C0-578C11F1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FD87-5E1F-480B-975A-D1237E3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8EA8-837B-4EA0-AE1B-A9F5382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853A-17A9-44BA-B6EF-FD7BB0E7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EA85-EFA0-44A0-81C9-95FD1E7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252D-928A-4640-A848-03ABFF0D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157DA-42F8-420E-A322-4E58F1D6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688-3B37-46B0-8724-F9A1C71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7BA55-20F7-4FB4-8A54-011DB36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72A4-6420-45F7-940F-11928FF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552EE-5260-4C78-9301-6CE839D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E169-6891-45F9-850B-89F4F07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5333-D62C-4B7D-92C9-6F1E6B1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9F45-9FC4-422F-A6F3-CB20908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9018-B185-486F-80A4-59AEFFB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0AA4-C5A0-4947-B72F-400B544D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7F84-15A6-46BF-9332-F772895D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D7F8F-CCD3-4AB4-91B8-A93A615F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84A-027A-485B-833B-D3193A6F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35FA-DEDD-4F9D-818A-92B764A7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0A2F-D6CA-4685-81EE-86BB6D7C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5ACA-09C2-4A42-ADF5-0B762C6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9B74-C58D-4AC1-B556-7EDB473B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22C9E-FFBF-4311-9671-DBA1390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EE6B-4D2E-49F2-B03A-1EBD957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99CC-3448-425E-8F06-78BCDCF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7680-A6FC-4E12-9A2B-BE26A31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383D-BD19-4A06-BBF0-7AB455F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B72F9-6EBA-4DE1-BE99-91FFE467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2CE-8536-4A56-8343-8DD5475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3E54-F378-4A0A-969B-EB4CDEB6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94F0-6D8C-45B2-AFC8-358E1E8E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F05D-D302-48C0-80E2-58C5DA89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16E4-0374-4133-8132-70EC72E4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BA8A-120A-40DF-AC8F-9A38C6FD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537ED-1E09-422A-B875-AB49CCD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1CC8-64C7-40F6-B38F-CF059766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3754-0107-481B-BC5C-3DBEBA9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A106-DA75-405D-A6B7-FA8C6503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9B17A-781A-4074-B64B-E87ED9A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4C5-9CD1-40C5-876D-309E970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8B9D-46E9-4B01-ACA4-9E545BD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57FE1-C3C6-4DF1-9A0E-839F5CF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4FB8-755B-4A5A-AA06-B6C7BE90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AE67-B5CE-4455-8533-28E7E68F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72D3-3CFB-4ED6-B834-2CD018A9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34258-E42B-4A07-A9AF-0CD479DA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25BD-81C8-4D21-885D-0EF70F8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1ABD-024A-447F-A81D-697AC543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D57F1-0647-4BEC-8BEE-47057405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680B-2C45-4BF9-9ABE-EAEA5F39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5DC-B2A2-4A5D-8AD8-FFA8AE4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44CB-9C28-497C-86C3-42AB78D2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7368-EC3B-4C81-BAE5-716564B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90A1-4C48-4567-83CD-8C783D7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7EDCE-6FA3-4466-9813-12B0D47E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3B01-F54A-4424-9485-9749A42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748C-44B1-4421-9504-509683B8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6FFA6-3299-49ED-8D5B-14CD7BBF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49290-1586-43E1-BF7C-ACBE42AF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605DD-4246-45C2-B7C7-14E1FC9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BBA3-FA9E-48F4-8E4A-175DB8F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204A-1B84-4E91-9155-DCA35E533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472A-44BB-4EB9-ACBC-B4A2C9D970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E001-E3F9-448C-8D8F-1860B78A8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B540-D7FF-432C-8B5A-46AD5C5A7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7A2-2546-4194-B007-AC0585428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6EE9-B35E-4DCA-A9E3-D67DA1079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64B-A3E3-49B5-890B-B5BBCC50E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67CE-3FC5-4489-BE01-4917F11852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D42-7FB0-4CDB-9942-6C371E757F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9A4B-C41D-427A-A8B1-6416E0385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9D2-5B9B-4336-A7C9-B3D5C3BD3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7AD-1835-431E-81E4-B711582EB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343-F13A-46FE-979F-9095FC376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D1A4-7BB7-47EA-BAB9-BBC11B878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492B-13A0-4C22-9C91-0B08B1411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BB0-408A-4013-B114-1FB6474795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19F7-F632-4D2C-9AA6-2A3C8C5A7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B769-1339-469A-9457-01013C168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D636-FC4C-46D0-A7F3-890916459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6110-E43A-4B9F-A3B4-73AA38416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BCAE-D32A-4CF6-9560-04C93903F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D95E-3ED5-4FAC-93FE-2AF01D003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7593-8412-4916-9B10-B840A082B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1564-C4FE-4956-8E65-51BCEF1B3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970-B2DD-4BE2-9B8F-661702CD46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EAC-1FAD-49B5-815B-D5C9BC305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7C15-C0B1-4956-9078-CFA980552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B41A-5294-40A5-BE43-89C8CBB0E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CC6A-BC1A-491A-8FC3-DECF449D0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4A86-F4A5-4D64-99E4-D9D9E1292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707-9F86-468F-A157-ADBA8F957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E5B6-4C40-4950-BEF3-492A0275C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827-DFCD-49AD-A118-5D4943ABD1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7443-9AD9-4FBD-9063-10923FB51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F771-7652-45E1-9317-4E301CDAE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861-4F2B-4FDC-BAC4-2F17E52A7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5347-E39A-44EB-BA34-EEFED1D9AE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1D1-D762-44CE-A9AA-96B948227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C10C-594A-494E-B4F1-95D1DA09A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C1F9-467A-491D-9AE4-80EBBB6DD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3424320" y="3052800"/>
            <a:ext cx="22953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33360" y="1033560"/>
            <a:ext cx="84772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333360" y="1028880"/>
            <a:ext cx="847728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448480" cy="14857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"/>
          <p:cNvPicPr/>
          <p:nvPr/>
        </p:nvPicPr>
        <p:blipFill>
          <a:blip r:embed="rId2"/>
          <a:stretch/>
        </p:blipFill>
        <p:spPr>
          <a:xfrm>
            <a:off x="439560" y="2336760"/>
            <a:ext cx="8382240" cy="4448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3"/>
          <a:stretch/>
        </p:blipFill>
        <p:spPr>
          <a:xfrm>
            <a:off x="785880" y="8366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4"/>
          <a:stretch/>
        </p:blipFill>
        <p:spPr>
          <a:xfrm>
            <a:off x="785880" y="1346040"/>
            <a:ext cx="428400" cy="35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"/>
          <p:cNvPicPr/>
          <p:nvPr/>
        </p:nvPicPr>
        <p:blipFill>
          <a:blip r:embed="rId5"/>
          <a:stretch/>
        </p:blipFill>
        <p:spPr>
          <a:xfrm>
            <a:off x="785880" y="18464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6"/>
          <a:stretch/>
        </p:blipFill>
        <p:spPr>
          <a:xfrm>
            <a:off x="785880" y="2357280"/>
            <a:ext cx="428400" cy="35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7"/>
          <a:stretch/>
        </p:blipFill>
        <p:spPr>
          <a:xfrm>
            <a:off x="785880" y="291780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8"/>
          <a:stretch/>
        </p:blipFill>
        <p:spPr>
          <a:xfrm>
            <a:off x="857160" y="385776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9"/>
          <a:stretch/>
        </p:blipFill>
        <p:spPr>
          <a:xfrm>
            <a:off x="857160" y="441792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" descr=""/>
          <p:cNvPicPr/>
          <p:nvPr/>
        </p:nvPicPr>
        <p:blipFill>
          <a:blip r:embed="rId10"/>
          <a:stretch/>
        </p:blipFill>
        <p:spPr>
          <a:xfrm>
            <a:off x="857160" y="492912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"/>
          <p:cNvPicPr/>
          <p:nvPr/>
        </p:nvPicPr>
        <p:blipFill>
          <a:blip r:embed="rId11"/>
          <a:stretch/>
        </p:blipFill>
        <p:spPr>
          <a:xfrm>
            <a:off x="785880" y="58784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12"/>
          <a:stretch/>
        </p:blipFill>
        <p:spPr>
          <a:xfrm>
            <a:off x="785880" y="6389640"/>
            <a:ext cx="428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852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43080" y="928800"/>
            <a:ext cx="8458200" cy="1971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2"/>
          <a:stretch/>
        </p:blipFill>
        <p:spPr>
          <a:xfrm>
            <a:off x="255600" y="3000240"/>
            <a:ext cx="85057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448480" cy="3371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2"/>
          <a:stretch/>
        </p:blipFill>
        <p:spPr>
          <a:xfrm>
            <a:off x="471600" y="4543560"/>
            <a:ext cx="8458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52520" y="990720"/>
            <a:ext cx="8238960" cy="5581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4786200" y="2011320"/>
            <a:ext cx="1285920" cy="357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"/>
          <p:cNvPicPr/>
          <p:nvPr/>
        </p:nvPicPr>
        <p:blipFill>
          <a:blip r:embed="rId3"/>
          <a:stretch/>
        </p:blipFill>
        <p:spPr>
          <a:xfrm>
            <a:off x="1214280" y="3235320"/>
            <a:ext cx="2214720" cy="357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4"/>
          <a:stretch/>
        </p:blipFill>
        <p:spPr>
          <a:xfrm>
            <a:off x="5786280" y="4011480"/>
            <a:ext cx="2428920" cy="35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5"/>
          <a:stretch/>
        </p:blipFill>
        <p:spPr>
          <a:xfrm>
            <a:off x="7093080" y="4735440"/>
            <a:ext cx="1357200" cy="357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6"/>
          <a:stretch/>
        </p:blipFill>
        <p:spPr>
          <a:xfrm>
            <a:off x="3786120" y="5226120"/>
            <a:ext cx="1357560" cy="357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" descr=""/>
          <p:cNvPicPr/>
          <p:nvPr/>
        </p:nvPicPr>
        <p:blipFill>
          <a:blip r:embed="rId7"/>
          <a:stretch/>
        </p:blipFill>
        <p:spPr>
          <a:xfrm>
            <a:off x="6715080" y="5961240"/>
            <a:ext cx="13572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5:29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